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4CD-CCC6-4F21-8A59-ED881C29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BF7-CC6D-4449-ABFB-58708E3A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31F-F25F-4D6A-A985-6D4EAB02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050-B92A-44F9-BC3D-78B0E921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EB7-F057-4747-AFC9-F94418DC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1C8-29C2-4F0A-A4E9-F4D010C5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D99-63B3-4B7E-B66F-54182DFE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BC4-35E5-4FB3-BDD8-575AB550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772-F7D7-45DB-A135-5CBBA93C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292-CE5C-4D41-B58C-6D750C97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57C-F244-4498-B08F-23421D1B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ADD-EAD7-40EC-934F-458917D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A361E-4D7F-4DD7-B973-DCA9A8FC00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B8445-D310-41E7-9B17-D5BE922A8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Exceptional Individ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D2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all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in factual knowledge (terminology, classification, methods, trend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ing fundamental principles, generalizations, or theo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ing to apply course material (to improve thinking, problem solving, and decisions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ing specific skills, competencies, and points of view needed by professionals in the field most closely related to this cour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ing how to find and use resources for answering questions or solving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ctu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se Stud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p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tion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tion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ass Particip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cla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es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d-te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Particip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lass—workshop style, lots of discussion you must be prepared and you must particip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—this technology will be a central communication tool in the class.  You will be expected to post your work on the site.  Almost all of your assignments will be turned in using Wi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top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s of scientific th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 of Special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ing Naturalistic Inqu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ic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 Case Study Tal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PLEP write 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#1—a literature review of current and historical perspectives of dis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#2—written with the knowledge from the interviews conducted by your class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iews—five interviews conduct to assist your classmates with their pap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-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ay based.  Comprehen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22:00:51Z</dcterms:created>
  <dc:creator>benedictine college</dc:creator>
  <dc:description/>
  <dc:language>en-US</dc:language>
  <cp:lastModifiedBy>benedictine college</cp:lastModifiedBy>
  <dcterms:modified xsi:type="dcterms:W3CDTF">2009-08-26T16:22:04Z</dcterms:modified>
  <cp:revision>1</cp:revision>
  <dc:subject/>
  <dc:title>Characteristics of Exceptional Individuals</dc:title>
</cp:coreProperties>
</file>